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654-B63C-467C-89AA-8F1F4DA6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871-E2D9-4012-A619-5EC9165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B24-AE14-4C3C-B5F3-B4D1400D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10A-9467-4B65-911B-D8B9F66B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682A-5268-43E5-A07E-F2DC2824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FE87-F2F9-477E-AEE6-066BA33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DC2-4184-42D5-B387-6806455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21A1-9243-4863-85AF-3C4F55E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697B-8710-4FCC-9651-7B8FE6C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DAB8-F972-4320-A675-FAA4DE09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7E8A-90AD-4975-A453-A8918FA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BEB-E0AC-4833-8C10-7D81C14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BF4-02CF-42A0-8E1B-EBED4F5A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681-401E-4F47-BE3E-AF49453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6758-DBC0-4BE9-8FC4-1DA2E151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36D5-390F-40CB-9A2F-3FFBD14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C41C-56CB-409F-991C-5EAA865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2E5-EDC4-4956-AD98-94CB045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4BA-332F-42EB-9361-AF08E254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824-4BC0-42E6-A7DD-3700110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1ED-0841-46D0-AF96-018DAD5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792-7569-4B20-8BD7-DA5A065D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EE2-D089-499E-9C73-5A0C3F62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FE1-4FC1-4653-A66B-AE6FB22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701-4DC8-44B2-B014-F0012CB07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6D70-D24E-44F7-A22F-614A93264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ing read Judith Viorst’s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lexander and the Horrible, Terrible, No Good, Very Bad Da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xander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和他的可怕的，恐怖的，不好的，非常不好的日子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90876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alyze how the strategies employed by the author develop her narrator’s perspecti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分析作者使用的方法如何讲她作为叙述者的角度阐述出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19:53Z</dcterms:created>
  <dc:creator>DELL</dc:creator>
  <dc:description/>
  <dc:language>en-US</dc:language>
  <cp:lastModifiedBy>SAS</cp:lastModifiedBy>
  <dcterms:modified xsi:type="dcterms:W3CDTF">2011-10-19T02:30:27Z</dcterms:modified>
  <cp:revision>5</cp:revision>
  <dc:subject/>
  <dc:title>Having read _______’s Alexander and the Horrible, Terrible, No Good, Very Bad Day …</dc:title>
</cp:coreProperties>
</file>